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17E-284A-4115-89A2-09AA48CB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0FE-36F0-4134-B1E1-C6AEFEDE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385-47D6-4E55-BACF-CCB24879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0AC-8F16-48E1-B476-79C0ED95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DD0-FDCE-494A-8507-15AEAF92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8A5-27BC-4338-AC49-CE0E343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AEAA-B16F-4210-8BBA-AA61825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7C5-CADF-46FF-80EF-7C956704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623-02AE-4537-B75C-1678B013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32C-1C4F-4E2C-89AA-FBE46F17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5CEE-F470-4F82-8A99-A330690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DE0-180F-4732-AA56-52883A1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95ED-C502-4E2A-BB3C-DF42B9F01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brary of Function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ecewise-define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0" y="1627200"/>
            <a:ext cx="4800600" cy="604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2541600"/>
            <a:ext cx="3156120" cy="119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52480" y="2006640"/>
            <a:ext cx="5529240" cy="6285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520" y="2768760"/>
            <a:ext cx="9069480" cy="965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0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76440" y="1019160"/>
            <a:ext cx="3505320" cy="581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43080" y="1854360"/>
            <a:ext cx="7596000" cy="965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1905120"/>
            <a:ext cx="3733920" cy="608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143000" y="2666880"/>
            <a:ext cx="6858000" cy="114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43200" y="1998720"/>
            <a:ext cx="3581280" cy="6015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8120" y="2913120"/>
            <a:ext cx="2539800" cy="104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2125800"/>
            <a:ext cx="3124440" cy="560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3116160"/>
            <a:ext cx="2743200" cy="107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24080" y="1708200"/>
            <a:ext cx="2971800" cy="593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124080" y="2546280"/>
            <a:ext cx="3048120" cy="118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7400" y="1967040"/>
            <a:ext cx="5105520" cy="5983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95480" y="2805120"/>
            <a:ext cx="3429000" cy="12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90920" y="1963800"/>
            <a:ext cx="3733560" cy="5475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95480" y="2801880"/>
            <a:ext cx="3098880" cy="1236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6880" y="1797120"/>
            <a:ext cx="3990960" cy="56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00400" y="2711520"/>
            <a:ext cx="3003480" cy="1479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ph it.  Label key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06:51:25Z</dcterms:modified>
  <cp:revision>6</cp:revision>
  <dc:subject/>
  <dc:title>Slide 1</dc:title>
</cp:coreProperties>
</file>